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7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29.pct" ContentType="image/x-pict"/>
  <Override PartName="/ppt/media/image16.jpeg" ContentType="image/jpeg"/>
  <Override PartName="/ppt/media/image17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20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8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4240" y="65275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>
              <a:spcBef>
                <a:spcPts val="850"/>
              </a:spcBef>
              <a:buClr>
                <a:srgbClr val="5f7ba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>
              <a:spcBef>
                <a:spcPts val="850"/>
              </a:spcBef>
              <a:buClr>
                <a:srgbClr val="5f7ba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body"/>
          </p:nvPr>
        </p:nvSpPr>
        <p:spPr>
          <a:xfrm>
            <a:off x="444240" y="1270080"/>
            <a:ext cx="12115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7772400" y="2374920"/>
            <a:ext cx="4788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5080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8708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1822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50228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084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11996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51992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93140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88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body"/>
          </p:nvPr>
        </p:nvSpPr>
        <p:spPr>
          <a:xfrm>
            <a:off x="12600" y="1091880"/>
            <a:ext cx="12979440" cy="756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35040" indent="-15350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18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8796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5654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946920" y="2781360"/>
            <a:ext cx="530856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95184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22292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1501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1780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269720" y="1092240"/>
            <a:ext cx="104648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1269720" y="4876560"/>
            <a:ext cx="1046484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269720" y="3098880"/>
            <a:ext cx="1046484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4654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835200" indent="-46512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25316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67112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269720" y="690840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433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bf2"/>
                </a:solidFill>
                <a:latin typeface="Futura Condensed"/>
              </a:rPr>
              <a:t>Click to edit the title text format</a:t>
            </a:r>
            <a:endParaRPr b="0" lang="en-US" sz="8000" spc="-1" strike="noStrike">
              <a:solidFill>
                <a:srgbClr val="fffbf2"/>
              </a:solidFill>
              <a:latin typeface="Futura Condensed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8242200" y="2145960"/>
            <a:ext cx="4127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3660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6040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9064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2088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35040" y="2463480"/>
            <a:ext cx="6006960" cy="271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35040" y="5206680"/>
            <a:ext cx="60069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34680" y="7721640"/>
            <a:ext cx="1173492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028520" y="2945880"/>
            <a:ext cx="1094724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671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body"/>
          </p:nvPr>
        </p:nvSpPr>
        <p:spPr>
          <a:xfrm>
            <a:off x="634680" y="888480"/>
            <a:ext cx="1173492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hyperlink" Target="http://polyvision.wikispaces.com/" TargetMode="External"/><Relationship Id="rId5" Type="http://schemas.openxmlformats.org/officeDocument/2006/relationships/image" Target="../media/image26.png"/><Relationship Id="rId6" Type="http://schemas.openxmlformats.org/officeDocument/2006/relationships/hyperlink" Target="http://www.classbrain.com/artteensb/publish/interactive_globe_theater.shtml" TargetMode="External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hyperlink" Target="http://www.bgfl.org/bgfl/custom/files_uploaded/uploaded_resources/10667/NotMyBusiness.ppt#" TargetMode="External"/><Relationship Id="rId4" Type="http://schemas.openxmlformats.org/officeDocument/2006/relationships/hyperlink" Target="http://www.bgfl.org/bgfl/custom/files_uploaded/uploaded_resources/10667/NotMyBusiness.ppt#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www.bgfl.org/bgfl/custom/files_uploaded/uploaded_resources/10667/NotMyBusiness.ppt#" TargetMode="External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ct"/><Relationship Id="rId7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Interactive Whiteboards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Effective Use in the English Classroom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3" name="" descr=""/>
          <p:cNvPicPr/>
          <p:nvPr/>
        </p:nvPicPr>
        <p:blipFill>
          <a:blip r:embed="rId2"/>
          <a:stretch/>
        </p:blipFill>
        <p:spPr>
          <a:xfrm>
            <a:off x="2389320" y="5461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863280" y="3553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History...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85" name=""/>
          <p:cNvSpPr/>
          <p:nvPr/>
        </p:nvSpPr>
        <p:spPr>
          <a:xfrm>
            <a:off x="1305000" y="1911240"/>
            <a:ext cx="9308880" cy="68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7bae"/>
                </a:solidFill>
                <a:latin typeface="Palatino"/>
                <a:ea typeface="Palatino"/>
              </a:rPr>
              <a:t>1960s: The overhead projector hits the big time in classrooms everywhere.</a:t>
            </a: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7bae"/>
                </a:solidFill>
                <a:latin typeface="Palatino"/>
                <a:ea typeface="Palatino"/>
              </a:rPr>
              <a:t>2005: “Monochrom” composes song called “Farewell to Overhead.”</a:t>
            </a: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7bae"/>
                </a:solidFill>
                <a:latin typeface="Palatino"/>
                <a:ea typeface="Palatino"/>
              </a:rPr>
              <a:t>Goal: Use the board for much, much more than to merely project notes. </a:t>
            </a: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6" name=""/>
          <p:cNvSpPr/>
          <p:nvPr/>
        </p:nvSpPr>
        <p:spPr>
          <a:xfrm>
            <a:off x="1393920" y="2000160"/>
            <a:ext cx="4025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7bae"/>
                </a:solidFill>
                <a:latin typeface="Palatino"/>
                <a:ea typeface="Palatino"/>
              </a:rPr>
              <a:t>Robert McElroy, esnips.com</a:t>
            </a:r>
            <a:endParaRPr b="0" lang="en-US" sz="11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7" name=""/>
          <p:cNvSpPr/>
          <p:nvPr/>
        </p:nvSpPr>
        <p:spPr>
          <a:xfrm>
            <a:off x="8646120" y="598032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7bae"/>
                </a:solidFill>
                <a:latin typeface="Palatino"/>
                <a:ea typeface="Palatino"/>
              </a:rPr>
              <a:t>wikipedia.com</a:t>
            </a:r>
            <a:endParaRPr b="0" lang="en-US" sz="11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82000" indent="-558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Harness the power of what others have don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216440" indent="-5191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Savoye LET"/>
                <a:hlinkClick r:id="rId4"/>
              </a:rPr>
              <a:t>http://polyvision.wikispaces.com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216440" indent="-5191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Savoye LET"/>
                <a:hlinkClick r:id="rId6"/>
              </a:rPr>
              <a:t>www.classbrain.com/artteensb/publish/interactive_globe_theater.shtm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216440" indent="-5191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arch terms: “interactive” “smartboard” “whiteboard” “polyvision” etc.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Shift Thinking...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/>
          </p:nvPr>
        </p:nvSpPr>
        <p:spPr>
          <a:xfrm>
            <a:off x="1320840" y="181584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www.bgfl.org/bgfl/custom/files_uploaded/uploaded_resources/10667/NotMyBusiness.ppt#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4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hy is this better than what we do without interactive whiteboard?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arch terms: “:ppt” (Other file extensions, too!)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nother search trick...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88920" y="495000"/>
            <a:ext cx="94615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Yeah, I saved that last year.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6260760" y="313704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uild lessons using various software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RM Easiteach(Polyvision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mart Notebook (must own board somewhere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enefit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2794" name="" descr=""/>
          <p:cNvPicPr/>
          <p:nvPr/>
        </p:nvPicPr>
        <p:blipFill>
          <a:blip r:embed="rId6"/>
          <a:stretch/>
        </p:blipFill>
        <p:spPr>
          <a:xfrm>
            <a:off x="901800" y="436896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335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How can DIWB make existing practice stronger?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997320" y="3860280"/>
            <a:ext cx="11734920" cy="509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Wikis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Blogs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Moodl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Writing workshop*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assroom managemen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97" name=""/>
          <p:cNvSpPr/>
          <p:nvPr/>
        </p:nvSpPr>
        <p:spPr>
          <a:xfrm rot="19185600">
            <a:off x="1141200" y="5500440"/>
            <a:ext cx="4190760" cy="1269720"/>
          </a:xfrm>
          <a:prstGeom prst="leftRightArrow">
            <a:avLst>
              <a:gd name="adj1" fmla="val 58000"/>
              <a:gd name="adj2" fmla="val 42998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Mark it up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apture it! (with sound!)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ave it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nd it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Zoom, shield, spotlight..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title"/>
          </p:nvPr>
        </p:nvSpPr>
        <p:spPr>
          <a:xfrm>
            <a:off x="482760" y="304920"/>
            <a:ext cx="1125216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And then there are the tools!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